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549-27D0-443F-9F13-6C36C91C6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F74-9774-4C8A-BD42-B832E114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E6AC-C0A4-4112-B2B2-586F945BD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356F-BFB1-4107-9018-D17CF3007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3FA0-7241-4919-97BE-CDAEA900B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63C6-19E4-446F-8EDC-B56BBF4C5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66C6-57F7-4110-B072-E6FCCDD59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D889-1102-4DD6-801B-AE1F5D289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6B18-38B7-4FBA-8DA4-2698CA6CC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48F0-8F4B-44A9-B808-516AB8D14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17B5-A5E8-406F-A2E5-15A7278DF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BB15-DF3C-4C8D-A4EA-EF2D7A34C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B0B2-BDC1-4F78-9D1A-95B5CCB80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0EBB-AE96-4ADF-8152-8EC24BB4E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FA92-C4A2-40E2-82EA-CA7E8715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525760" y="3213000"/>
            <a:ext cx="6465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7000"/>
          </a:bodyPr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e Puls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PROTECTED OCCULA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OR SCATTE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44880" y="5626080"/>
            <a:ext cx="5334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nse Pulsed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lengths: 400nm – 1400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John Hoopman</cp:lastModifiedBy>
  <cp:lastPrinted>2018-08-15T15:18:09Z</cp:lastPrinted>
  <dcterms:modified xsi:type="dcterms:W3CDTF">2020-03-25T15:08:19Z</dcterms:modified>
  <cp:revision>39</cp:revision>
  <dc:subject/>
  <dc:title>PowerPoint Presentation</dc:title>
</cp:coreProperties>
</file>